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0E5-1A2E-4307-9E26-79F68D37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CEB-5669-478C-9863-717ACB88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A72-A595-44E4-93E6-B620BBCD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800-D44B-4096-B7CE-136A0BDE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A25C-9246-4744-8BD3-D7E7A4A7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5ED1-927D-451D-9EF4-70E1A4D1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5489-941A-4E60-8288-9D772390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2491-3F41-496F-8440-A758E9C5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CD25-1B70-4EC6-9983-0C373B36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6EDB-661C-40D7-BF88-7E8EA0C9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5159-C98B-4705-B1B5-C92C2A4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44C-F0F7-4F61-AEBC-89CE49D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4177-A493-4955-A283-83DACBC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E1A2-4928-41FC-8B26-09CFCD9D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FEE8-4E95-4638-A4E6-DD919A7E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145-C21E-4FF3-997E-4009DF36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E316-2973-4E33-A257-4890C695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27D-0EFD-4F40-B6FD-B2A03648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1F9-B03D-45C0-A0D0-16DA5F26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E2E-4563-4C69-AF80-B310F5B0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36A-1061-414F-B4F2-0D88836B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1A9-DE9F-4FCE-A688-B3E82E55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B0B-151B-46C9-AF80-7A7D91F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23E-818A-4735-83DE-01055E35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ED8A-3B02-458F-92B2-69B15DC70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C576-FF3D-4565-A002-76B1CD5EC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Daylon and Ty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Decim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Often ‘’ decimal number”   is also used to mean a number that uses a decimal point followed  by digits as a way of showing values than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Lowest common multip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Example’’the least common multiple of   3 and 5 is 15 because15 is a multiple of 3 and also a multiple of 5.other common multiples include30 and  45,etc,but they are not the smallest [least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Least common denominato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Example; the least common denominator of  ½  and 2/3 is 6 because they can be written as 3/6 and 4/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perc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Percent means parts per 100 the symbol is % example;25% means 25 per 100 [25% of this box is 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express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Numbers  ,symbols  and operators (such as x, +, and -) grouped together that show the value of something.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adder ITC"/>
              </a:rPr>
              <a:t>2 x 3 is an expr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external image Mathematics.jpg"/>
          <p:cNvPicPr/>
          <p:nvPr/>
        </p:nvPicPr>
        <p:blipFill>
          <a:blip r:embed="rId2"/>
          <a:stretch/>
        </p:blipFill>
        <p:spPr>
          <a:xfrm>
            <a:off x="762120" y="3886200"/>
            <a:ext cx="5715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external image Mathematics.jpg"/>
          <p:cNvPicPr/>
          <p:nvPr/>
        </p:nvPicPr>
        <p:blipFill>
          <a:blip r:embed="rId2"/>
          <a:stretch/>
        </p:blipFill>
        <p:spPr>
          <a:xfrm>
            <a:off x="304920" y="2971800"/>
            <a:ext cx="5715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27:18Z</dcterms:created>
  <dc:creator>daylon.barnes</dc:creator>
  <dc:description/>
  <dc:language>en-US</dc:language>
  <cp:lastModifiedBy>daylon.barnes</cp:lastModifiedBy>
  <dcterms:modified xsi:type="dcterms:W3CDTF">2010-11-23T19:07:31Z</dcterms:modified>
  <cp:revision>2</cp:revision>
  <dc:subject/>
  <dc:title>Vocabulary </dc:title>
</cp:coreProperties>
</file>